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135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113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93400" y="708120"/>
            <a:ext cx="472428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4030560" y="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975880"/>
            <a:ext cx="308124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F523136-E2CC-4F13-859A-3B74F984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086332B-8A11-42B5-B469-211793203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AA49C25-518F-41F8-B27F-8B6DFD4D9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acronym stand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some background history related to MITRE overview whit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we seeking to formalize?  (validation, versioning, extensibility, adop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FF6928A-8734-414C-ACAC-6ED6E406A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D8CBF51-4879-4845-BC0C-7262C1BE4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DD3A99F-C6EB-4A4F-90DA-CC8D53D26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01E1FDE-A33C-4234-8EFE-A4976FF7D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 provides enough information to distinguish one remediation from another (i.e., yes, this is the remediation I am interested in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I provides additional information – possible references, preconditions, known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9376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7880" y="4487760"/>
            <a:ext cx="521640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30560" y="8975880"/>
            <a:ext cx="3081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9A652D0-8704-442D-A96A-9D08F7CE5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456-E95D-4633-9D6E-5D266D4C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10B5-251D-4F20-85B0-A0DD9FEE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FA9-EB76-46EC-B264-49CF2A19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74F-71AC-4FF9-A233-8A049791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FD7F-8F18-485F-B533-7A54AB2F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ABAA-6051-4D0E-9A85-E65DAF9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4DEE-DE2A-406C-88E5-D6B765EE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8FEF-6A96-4508-AC53-366DE291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972D-5DDD-4515-8EB9-1C83C33B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62E5-329F-446A-9264-68EDC7DC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B89A-1611-4410-BFCC-43FDAB0B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47D-5146-4C37-AB8F-C3D62F8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F9B4-DFE4-4C47-A745-16598FB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D1C5-ADC7-4644-828C-EFB9124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9B92-54B1-4892-BDE7-F776556D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A9DA-05B5-4C60-984B-871334AD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9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0080" y="175212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38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9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0080" y="4100760"/>
            <a:ext cx="2476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9108-6648-4708-9A75-98B4A2B8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655-58F0-4F9A-91F6-60188554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A84-C8B4-4A1F-856D-86C0584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277-950A-4E5B-9AFF-66369E55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14680" y="586440"/>
            <a:ext cx="78188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D1D8-A578-4938-9233-2FA92014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B22-8E9A-4E39-8A1A-E68B6F5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10076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BF7-D5EC-403F-9C1C-CDF61875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1752120"/>
            <a:ext cx="37540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100760"/>
            <a:ext cx="7693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618-C0A7-4C44-84CB-A01CECC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19051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272B-325B-4269-A631-157C19BDE6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4344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605D-072A-4922-9BF2-D18AF083153E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istBlue"/>
          <p:cNvPicPr/>
          <p:nvPr/>
        </p:nvPicPr>
        <p:blipFill>
          <a:blip r:embed="rId2"/>
          <a:stretch/>
        </p:blipFill>
        <p:spPr>
          <a:xfrm>
            <a:off x="8001000" y="152280"/>
            <a:ext cx="990720" cy="3542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7"/>
          <p:cNvSpPr/>
          <p:nvPr/>
        </p:nvSpPr>
        <p:spPr>
          <a:xfrm>
            <a:off x="1447920" y="5562720"/>
            <a:ext cx="6248160" cy="0"/>
          </a:xfrm>
          <a:prstGeom prst="line">
            <a:avLst/>
          </a:prstGeom>
          <a:ln w="316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" name="Picture 8" descr="nistBlue"/>
          <p:cNvPicPr/>
          <p:nvPr/>
        </p:nvPicPr>
        <p:blipFill>
          <a:blip r:embed="rId2"/>
          <a:stretch/>
        </p:blipFill>
        <p:spPr>
          <a:xfrm>
            <a:off x="3886200" y="5791320"/>
            <a:ext cx="1143000" cy="407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1981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533-A7B1-4F7F-AA57-0E022C450D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419360" y="6248520"/>
            <a:ext cx="42685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A3C7-F15B-43DF-961A-F01C093258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david.waltermire@nist.g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1640" y="34286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Security Automation Developer Days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4d4d4d"/>
                </a:solidFill>
                <a:latin typeface="Arial"/>
              </a:rPr>
              <a:t>June 14-16, 2010</a:t>
            </a:r>
            <a:endParaRPr b="0" lang="en-US" sz="17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hris Johns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e National Institute of Standards and Technology (NIST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4040" y="1572480"/>
            <a:ext cx="79038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nterprise Remediation Automation Protocol (ERAP)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Other Activ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alidation strategy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vendor outreach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ing of identifier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ing a trust mod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81280" y="652320"/>
            <a:ext cx="72288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Contact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Arial"/>
              </a:rPr>
              <a:t>Contact Inf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Arial"/>
              </a:rPr>
              <a:t>Christopher Johns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Computer Security Divi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Information Technology Laborator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National Institute of Standards and Technolog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ristopher.johnson@nist.gov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Arial"/>
              </a:rPr>
              <a:t>(301) 975-598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540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ERAP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ERAP components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Use Cas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apabil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 Suit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Component Specifications Roadmap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62240" y="510120"/>
            <a:ext cx="469476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What is ERAP?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rpr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di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o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oco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 of individually maintained, community developed, open specifications to provide a standardized approach to maintaining the security of enterprise syste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se specifications establish conventions for identifying, describing and orchestrating remediation actions for the enterpris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AP defines how these specification are used in concert to deliver capabilities to the security automation communit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standardized reference data -- ERAP Cont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0"/>
          <p:cNvSpPr/>
          <p:nvPr/>
        </p:nvSpPr>
        <p:spPr>
          <a:xfrm>
            <a:off x="304920" y="685800"/>
            <a:ext cx="8610480" cy="556272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ounded Rectangle 9"/>
          <p:cNvSpPr/>
          <p:nvPr/>
        </p:nvSpPr>
        <p:spPr>
          <a:xfrm>
            <a:off x="4572000" y="1295280"/>
            <a:ext cx="2819520" cy="480060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4800600"/>
              <a:gd name="textAreaBottom" fmla="*/ 4663080 h 480060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75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1600200" y="1295280"/>
            <a:ext cx="2971800" cy="4800600"/>
          </a:xfrm>
          <a:custGeom>
            <a:avLst/>
            <a:gdLst>
              <a:gd name="textAreaLeft" fmla="*/ 145080 w 2971800"/>
              <a:gd name="textAreaRight" fmla="*/ 2826720 w 2971800"/>
              <a:gd name="textAreaTop" fmla="*/ 145080 h 4800600"/>
              <a:gd name="textAreaBottom" fmla="*/ 4655520 h 4800600"/>
            </a:gdLst>
            <a:ahLst/>
            <a:rect l="textAreaLeft" t="textAreaTop" r="textAreaRight" b="textAreaBottom"/>
            <a:pathLst>
              <a:path w="21600" h="34891">
                <a:moveTo>
                  <a:pt x="3600" y="0"/>
                </a:moveTo>
                <a:arcTo wR="3600" hR="3600" stAng="16200000" swAng="-5400000"/>
                <a:lnTo>
                  <a:pt x="0" y="31291"/>
                </a:lnTo>
                <a:arcTo wR="3600" hR="3600" stAng="10800000" swAng="-5400000"/>
                <a:lnTo>
                  <a:pt x="18000" y="3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9393"/>
          </a:solidFill>
          <a:ln w="9360">
            <a:solidFill>
              <a:srgbClr val="2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3960" y="38160"/>
            <a:ext cx="8381160" cy="5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ERAP Components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828800" y="320040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chine readable XM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resul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chestrate remedi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e machine stat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ress Polic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66720" y="3276360"/>
            <a:ext cx="3124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rete remediation action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lemental remediation data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5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exchange forma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905120" y="1523880"/>
            <a:ext cx="2514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anguag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ans of expr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structions/Result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0" y="1523880"/>
            <a:ext cx="2819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720" indent="-396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96720" indent="-396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ntions for identifying and describing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533520" y="1600200"/>
            <a:ext cx="3733560" cy="4952880"/>
          </a:xfrm>
          <a:custGeom>
            <a:avLst/>
            <a:gdLst>
              <a:gd name="textAreaLeft" fmla="*/ 182160 w 3733560"/>
              <a:gd name="textAreaRight" fmla="*/ 3551400 w 3733560"/>
              <a:gd name="textAreaTop" fmla="*/ 182160 h 4952880"/>
              <a:gd name="textAreaBottom" fmla="*/ 4770720 h 4952880"/>
            </a:gdLst>
            <a:ahLst/>
            <a:rect l="textAreaLeft" t="textAreaTop" r="textAreaRight" b="textAreaBottom"/>
            <a:pathLst>
              <a:path w="21600" h="28654">
                <a:moveTo>
                  <a:pt x="3600" y="0"/>
                </a:moveTo>
                <a:arcTo wR="3600" hR="3600" stAng="16200000" swAng="-5400000"/>
                <a:lnTo>
                  <a:pt x="0" y="25054"/>
                </a:lnTo>
                <a:arcTo wR="3600" hR="3600" stAng="10800000" swAng="-5400000"/>
                <a:lnTo>
                  <a:pt x="18000" y="28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57200" y="685800"/>
            <a:ext cx="8458200" cy="6094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t of community developed specific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Use Cas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09480" y="1752480"/>
            <a:ext cx="807732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RAP Use Case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Comprehens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ll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elective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remediate one or more computing assets for a subset of vulnerabilities and mis-configurations discovered during a prior assessme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Independent Remedia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– apply one or more remediations to one or more computing assets regardless of their current state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905120" y="1828800"/>
          <a:ext cx="5243400" cy="3817800"/>
        </p:xfrm>
        <a:graphic>
          <a:graphicData uri="http://schemas.openxmlformats.org/drawingml/2006/table">
            <a:tbl>
              <a:tblPr/>
              <a:tblGrid>
                <a:gridCol w="1168200"/>
                <a:gridCol w="1484280"/>
                <a:gridCol w="2590920"/>
              </a:tblGrid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Remediation Enum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stablishes a common name and basic information about the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Extended Remediation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tains supplemental information about a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Control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nvention for asserting which remediations are to be applied to specific ass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Policy Language Spec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Ability to constrain remediation by asset 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Remediation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Common format for reporting the results of an attempted remed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VR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Open Vulnerability Remediation Langu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 Narrow"/>
                        </a:rPr>
                        <a:t>Language for expressing the low level remediation a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Oval 16"/>
          <p:cNvSpPr/>
          <p:nvPr/>
        </p:nvSpPr>
        <p:spPr>
          <a:xfrm>
            <a:off x="609480" y="1828800"/>
            <a:ext cx="2210040" cy="129528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Naming &amp; Describ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09480" y="4952880"/>
            <a:ext cx="2210040" cy="685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_x0012_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Remedia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Oval 21"/>
          <p:cNvSpPr/>
          <p:nvPr/>
        </p:nvSpPr>
        <p:spPr>
          <a:xfrm>
            <a:off x="609480" y="4343400"/>
            <a:ext cx="2210040" cy="63180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 Narrow"/>
              </a:rPr>
              <a:t>Reporting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91200" y="204840"/>
            <a:ext cx="4466160" cy="73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apabilitie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609480" y="3124080"/>
            <a:ext cx="2210040" cy="1219320"/>
          </a:xfrm>
          <a:prstGeom prst="ellipse">
            <a:avLst/>
          </a:prstGeom>
          <a:solidFill>
            <a:srgbClr val="77777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Orchestr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 Suit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 will work with the community to develop a set of publications describing these enterprise remediation capabilities.  These publications will be hosted on the NIST Computer Security Resource Center (CSRC) website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Component Specifica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AP Data Exchange Forma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Component Specifications Roadmap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Component Specification Roadmap (DRAFT)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0: CRE, ERI, Policy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1: Control Language, Resul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2012: Remediation Languag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14680" y="5864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ERAP Publications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52120"/>
            <a:ext cx="7693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AP Publication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Vision Docu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 to Adopting and Using ERAP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P Technical Specifi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5:24:41Z</dcterms:created>
  <dc:creator/>
  <dc:description/>
  <cp:keywords/>
  <dc:language>en-US</dc:language>
  <cp:lastModifiedBy>sboczeno</cp:lastModifiedBy>
  <cp:lastPrinted>2009-04-22T19:24:48Z</cp:lastPrinted>
  <dcterms:modified xsi:type="dcterms:W3CDTF">2010-06-08T17:15:32Z</dcterms:modified>
  <cp:revision>1052</cp:revision>
  <dc:subject/>
  <dc:title>Security Content Automation Protocol and What It Means to Information Assur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381033</vt:lpwstr>
  </property>
</Properties>
</file>